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9.jpeg" ContentType="image/jpeg"/>
  <Override PartName="/ppt/media/image20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AD9-C964-42D1-AE6B-D0666EEF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D24-AF06-4791-A414-8DBEC26E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E559-A11D-4965-9362-92EF9F11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E97-1A32-4F2A-B750-77BB5341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7276-ECED-4D73-9D9B-F8841A55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C878-AB8A-4E43-AA2F-4CD242CB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648E-424B-4890-ACD0-C4F0D27F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779A-6016-4F4C-A0D2-C9152EBC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AF1E-C3F3-4E6B-ADF8-3CF40F74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D72E-A817-406A-9F6C-D3B71257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BF6F-B545-4216-B36D-68BB39ED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ED2-2477-40BB-A823-712499FF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30B4-32DE-4269-BEFC-F63AB7B3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18F5-BE49-47BA-9216-14525CE8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457-8845-4454-8AD2-BD5A223D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163C-EDD0-436C-A2F8-E2B5200F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D08C-46B4-4B67-85E6-7A32C723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A21C-DB49-45F7-8397-B5E4E39F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5BD0-48DC-4F6C-90DD-CBC11398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24A9-8727-4C49-B2B9-8281CCB1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71B7-2596-457F-9522-393FD01C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DBBFE-7489-408C-B9C4-3F07A6E9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2BA-D3BD-4F4E-B787-417B6B62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D51D1-A270-4BA9-A5DB-1AF2ADAC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E49C-143A-458C-BA09-5DF48556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9EBA-6B7A-474D-B25E-89C587A8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CE58-8996-4AEB-8424-FFCD34E7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609D-3218-4830-AB39-0C2A3A11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1A03-8F2B-442A-9A97-CA8986B1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173F-AD7A-4966-8643-6631C8F3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2E7-330F-4BC0-9248-5AFBCEB7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B22E-1C31-4146-A952-325A32A4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ADCB-FCB6-4F2F-BFD1-12CE5109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1A1-9627-4478-9F2E-236A7A35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E2C-5335-41B5-BCF4-3339420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A4B6-BA59-45A8-BD7D-43DF4C90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1069-F41E-4DCE-836E-180B0B269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0F45-2E4C-4D56-B89A-2525969A7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1CFA-2E54-4A7B-BD55-416B259C3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CHAIKOVSKY-THE_SLEEPING_BEAUTY-WALTZ.wav" TargetMode="External"/><Relationship Id="rId2" Type="http://schemas.microsoft.com/office/2007/relationships/media" Target="file:///tmp/home/.config/libreoffice/4/user/gallery/TCHAIKOVSKY-THE_SLEEPING_BEAUTY-WALTZ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39640" y="404640"/>
            <a:ext cx="8209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Impact"/>
              </a:rPr>
              <a:t>MEDII  DE  VIAŢ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Impact"/>
              <a:ea typeface="Impact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0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940360" y="0"/>
            <a:ext cx="3203640" cy="3284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-1035000"/>
            <a:ext cx="5940360" cy="4456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3635280" y="3276720"/>
            <a:ext cx="5508720" cy="3581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76400" y="1989000"/>
            <a:ext cx="4619520" cy="13129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una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păduri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de stejar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130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lci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,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viermi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ăianjeni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şi alt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secte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broa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şte,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şopârl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ş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e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rp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cuc, vulpe</a:t>
            </a: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căprioară etc</a:t>
            </a: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9080" y="333360"/>
            <a:ext cx="1963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ădaşc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68720" y="6021360"/>
            <a:ext cx="126432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ic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06520" y="2637000"/>
            <a:ext cx="23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lamand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836640"/>
            <a:ext cx="720720" cy="504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451640" y="2708280"/>
            <a:ext cx="505080" cy="216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7451640" y="2565000"/>
            <a:ext cx="73080" cy="358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164360" y="6093000"/>
            <a:ext cx="503280" cy="288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332748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420360" y="3573360"/>
            <a:ext cx="124128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vul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058920" y="4076640"/>
            <a:ext cx="1152360" cy="1008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211640" y="4076640"/>
            <a:ext cx="1942920" cy="11527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305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277440" y="189000"/>
            <a:ext cx="22395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ăprioar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131640" y="765000"/>
            <a:ext cx="1295640" cy="93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765000"/>
            <a:ext cx="1584360" cy="1008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77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770" fill="hold"/>
                                        <p:tgtEl>
                                          <p:spTgt spid="2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77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770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" y="2610000"/>
            <a:ext cx="87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ăspândite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la d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munte, la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altitudini mai mici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 versanţi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umbriţi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 altitudini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mai mari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e versanţii însoriţ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640" y="404640"/>
            <a:ext cx="534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6600"/>
                </a:solidFill>
                <a:uFillTx/>
                <a:latin typeface="Arial"/>
              </a:rPr>
              <a:t>Păduril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de fag</a:t>
            </a:r>
            <a:r>
              <a:rPr b="1" lang="ro-RO" sz="6000" spc="-1" strike="noStrike" u="sng">
                <a:solidFill>
                  <a:srgbClr val="ffff00"/>
                </a:solidFill>
                <a:uFillTx/>
                <a:latin typeface="Arial"/>
              </a:rPr>
              <a:t> - 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Arial"/>
              </a:rPr>
              <a:t>făge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127920" y="0"/>
            <a:ext cx="3016080" cy="4076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226560" y="0"/>
            <a:ext cx="221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 Black"/>
              </a:rPr>
              <a:t>- jir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fructul fag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4000" y="692280"/>
            <a:ext cx="8820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rbori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g, mesteacă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ltin, carpen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lm de munte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lid, bra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732720" y="5049720"/>
            <a:ext cx="2411280" cy="1808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06880" y="61848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răguţ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440" y="1341360"/>
            <a:ext cx="3015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rbuşti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un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ur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rn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44000" y="1700280"/>
            <a:ext cx="2300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mure- fruc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mur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5363640" y="907560"/>
            <a:ext cx="1079640" cy="10083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284360" y="1916280"/>
            <a:ext cx="2158920" cy="1728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59560" y="836640"/>
            <a:ext cx="49658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plante erbac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rigă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uşchi, licheni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erea-ursului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ăiu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ş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iuperci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26692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1989000"/>
            <a:ext cx="7956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9900"/>
                </a:solidFill>
                <a:latin typeface="Arial"/>
              </a:rPr>
              <a:t>diferite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ecte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993300"/>
                </a:solidFill>
                <a:latin typeface="Arial"/>
              </a:rPr>
              <a:t>şopârl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şerpi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gaiţ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uhurez</a:t>
            </a: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8760" y="404640"/>
            <a:ext cx="416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animale</a:t>
            </a:r>
            <a:r>
              <a:rPr b="1" lang="ro-RO" sz="6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26880" y="6093000"/>
            <a:ext cx="288900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ărăbuş de pă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12720" y="520236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oc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nito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356000" y="3500280"/>
            <a:ext cx="4788000" cy="3357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116000" y="3516480"/>
            <a:ext cx="4319640" cy="334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3530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-468360" y="3500280"/>
            <a:ext cx="2227320" cy="3357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782160" y="1197000"/>
            <a:ext cx="39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b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der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isică salbatic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59640" y="400536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veveriţă</a:t>
            </a:r>
            <a:r>
              <a:rPr b="1" lang="ro-RO" sz="3600" spc="-1" strike="noStrike">
                <a:solidFill>
                  <a:srgbClr val="993300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05800" y="6216480"/>
            <a:ext cx="21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viez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440" y="3573360"/>
            <a:ext cx="11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â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65080" y="0"/>
            <a:ext cx="1985040" cy="642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istre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780000" y="549360"/>
            <a:ext cx="1008000" cy="792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59280" y="549360"/>
            <a:ext cx="1297080" cy="8636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3700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139920"/>
            <a:ext cx="5904000" cy="37180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516640" y="3141720"/>
            <a:ext cx="3627360" cy="3716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2520" y="3716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l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0" y="-243000"/>
            <a:ext cx="4248000" cy="3384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141440" y="4762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ce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995280" y="1125360"/>
            <a:ext cx="863640" cy="574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1125360"/>
            <a:ext cx="792360" cy="648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132000" y="4292640"/>
            <a:ext cx="136872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00720" y="4292640"/>
            <a:ext cx="122364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6000">
    <p:checker dir="horz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0" y="2205000"/>
            <a:ext cx="9144000" cy="365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 Black"/>
              </a:rPr>
              <a:t>PĂDURE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 Black"/>
              <a:ea typeface="Arial Black"/>
            </a:endParaRPr>
          </a:p>
        </p:txBody>
      </p:sp>
    </p:spTree>
  </p:cSld>
  <p:transition spd="med">
    <p:checker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124000" y="260280"/>
            <a:ext cx="48942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6600"/>
                </a:solidFill>
                <a:latin typeface="Arial"/>
              </a:rPr>
              <a:t>Păduril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6600"/>
                </a:solidFill>
                <a:latin typeface="Arial"/>
              </a:rPr>
              <a:t>de conifer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6600"/>
                </a:solidFill>
                <a:latin typeface="Arial"/>
              </a:rPr>
              <a:t>(răşinoase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0880" y="3573360"/>
            <a:ext cx="692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numite dup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fructul arborilor – </a:t>
            </a:r>
            <a:r>
              <a:rPr b="1" lang="ro-RO" sz="4400" spc="-1" strike="noStrike">
                <a:solidFill>
                  <a:srgbClr val="00ffff"/>
                </a:solidFill>
                <a:latin typeface="Arial"/>
              </a:rPr>
              <a:t>con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ff"/>
                </a:solidFill>
                <a:latin typeface="Arial"/>
              </a:rPr>
              <a:t>răşina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secretată – cu 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protect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-388800"/>
            <a:ext cx="9144000" cy="7246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880" y="2128680"/>
            <a:ext cx="9190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în </a:t>
            </a: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regiunile înalte ale munţilor</a:t>
            </a: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e la limita superioară a fagulu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ână în zona subalpină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9933"/>
                </a:solidFill>
                <a:latin typeface="Arial"/>
              </a:rPr>
              <a:t>- 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Pe pantele umbroase (nordi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ale dealurilor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33336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arbori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9900"/>
                </a:solidFill>
                <a:latin typeface="Arial"/>
              </a:rPr>
              <a:t>conifere: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- brad,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 molid,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zadă, pin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foioase: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ag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steacă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altin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46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500720" y="3409920"/>
            <a:ext cx="4643280" cy="34480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3417840"/>
            <a:ext cx="4572000" cy="34401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20" y="-58680"/>
            <a:ext cx="329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arbuşti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2720" y="1150920"/>
            <a:ext cx="1703160" cy="5205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- meriş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5800" y="4365720"/>
            <a:ext cx="1031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22160" y="3645000"/>
            <a:ext cx="1585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acă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876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861080" y="309600"/>
            <a:ext cx="1933200" cy="642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zm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4500720" y="-4680"/>
            <a:ext cx="4643280" cy="34750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219640" cy="34718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4427640" y="3468600"/>
            <a:ext cx="4716360" cy="33894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79280" y="3573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uş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94720" y="5818320"/>
            <a:ext cx="2212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- ciuper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33360"/>
            <a:ext cx="165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-ferig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6880" y="306360"/>
            <a:ext cx="1905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- liche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6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348000" y="2994120"/>
            <a:ext cx="57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50920" y="134136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în general mamifere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- cerb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1360" y="260280"/>
            <a:ext cx="456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animale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935240" y="1916280"/>
            <a:ext cx="18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- ciută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84720" y="2565360"/>
            <a:ext cx="7164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2975040"/>
            <a:ext cx="5076720" cy="38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H="1">
            <a:off x="2124000" y="2708280"/>
            <a:ext cx="287280" cy="1657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279240" y="476280"/>
            <a:ext cx="23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urs b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51280" y="580536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- ursoaică cu p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067280" y="-171360"/>
            <a:ext cx="5076720" cy="3814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-252360" y="-216000"/>
            <a:ext cx="4537080" cy="3892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50920" y="2349360"/>
            <a:ext cx="34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- acvilă de mu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29640" y="2349360"/>
            <a:ext cx="22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co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 mu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727680" y="3645000"/>
            <a:ext cx="2416320" cy="3213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0" y="3659040"/>
            <a:ext cx="3348000" cy="3198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213440" y="4149720"/>
            <a:ext cx="111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j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203640" y="4797360"/>
            <a:ext cx="180000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4797360"/>
            <a:ext cx="1800360" cy="1079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98520" y="476280"/>
            <a:ext cx="273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veveriţ</a:t>
            </a:r>
            <a:r>
              <a:rPr b="1" lang="ro-RO" sz="4000" spc="-1" strike="noStrike">
                <a:solidFill>
                  <a:srgbClr val="ff9900"/>
                </a:solidFill>
                <a:latin typeface="Arial"/>
              </a:rPr>
              <a:t>ă;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7960" y="1628640"/>
            <a:ext cx="65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piţigoi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ciocănitoare, mierl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6880" y="2565360"/>
            <a:ext cx="397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ş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pârl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e, şerpi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240" y="3500280"/>
            <a:ext cx="32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nsecte</a:t>
            </a:r>
            <a:r>
              <a:rPr b="1" lang="ro-RO" sz="4000" spc="-1" strike="noStrike">
                <a:solidFill>
                  <a:srgbClr val="ff3300"/>
                </a:solidFill>
                <a:latin typeface="Arial"/>
              </a:rPr>
              <a:t>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50920" y="907920"/>
            <a:ext cx="8356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Pădurea pierde tot mai mul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teren datorit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exploatării necontrolat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extinderii zonelor de locu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şi a suprafeţelor agricol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inconştienţei noastr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incendii, poluare, ploi a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defrişări et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5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5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5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5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56" dur="20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0"/>
            <a:ext cx="914400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6600" spc="-1" strike="noStrike" u="sng">
                <a:solidFill>
                  <a:srgbClr val="ffff00"/>
                </a:solidFill>
                <a:uFillTx/>
                <a:latin typeface="Arial"/>
              </a:rPr>
              <a:t>Pădurea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rafaţă mare de teren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c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reuneşte plante (floră spontană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şi animale sălbatice, lega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între ele prin lanţul trofi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rbori şi arbuş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lante erbacee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şi cu flori;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uşchi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;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iferite specii de animale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sălbatic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160" y="2276640"/>
            <a:ext cx="86965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cuprind arbori cu frunze căzăto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(care îşi scutură frunzele toamna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la câmpie, la deal, la poalele ş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pe pantele însorite ale munţilor</a:t>
            </a:r>
            <a:r>
              <a:rPr b="1" lang="ro-RO" sz="4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salcâm, tei, carpen, stejar, goru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frasin, ulm, fag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99"/>
                </a:solidFill>
                <a:latin typeface="Arial"/>
              </a:rPr>
              <a:t>etc.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mai luminoase decât cele de conifer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320" y="836640"/>
            <a:ext cx="7869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Pădurile de foioa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404640"/>
            <a:ext cx="643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În păduri</a:t>
            </a: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le de foioas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</a:t>
            </a: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esc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492280"/>
            <a:ext cx="9756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up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vulp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căprioar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streţ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jder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veveriţ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sica sălbatică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et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turz, mierl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 cuc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iocănitoare, gai</a:t>
            </a: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iţigoi, sticlete ş.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8040" y="3789360"/>
            <a:ext cx="836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Se găsesc la câmpie şi d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-  sunt luminoas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4880" y="620640"/>
            <a:ext cx="6378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6600"/>
                </a:solidFill>
                <a:uFillTx/>
                <a:latin typeface="Arial"/>
              </a:rPr>
              <a:t>Pădurile d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 u="sng">
                <a:solidFill>
                  <a:srgbClr val="ff6600"/>
                </a:solidFill>
                <a:uFillTx/>
                <a:latin typeface="Arial"/>
              </a:rPr>
              <a:t>s</a:t>
            </a:r>
            <a:r>
              <a:rPr b="1" lang="en-US" sz="6600" spc="-1" strike="noStrike" u="sng">
                <a:solidFill>
                  <a:srgbClr val="ff6600"/>
                </a:solidFill>
                <a:uFillTx/>
                <a:latin typeface="Arial"/>
              </a:rPr>
              <a:t>tejar</a:t>
            </a:r>
            <a:r>
              <a:rPr b="1" lang="ro-RO" sz="6600" spc="-1" strike="noStrike" u="sng">
                <a:solidFill>
                  <a:srgbClr val="ff6600"/>
                </a:solidFill>
                <a:uFillTx/>
                <a:latin typeface="Arial"/>
              </a:rPr>
              <a:t>- stejăre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640560" y="0"/>
            <a:ext cx="2503440" cy="2781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02200" y="2205000"/>
            <a:ext cx="2174040" cy="703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00"/>
                </a:solidFill>
                <a:latin typeface="Arial"/>
              </a:rPr>
              <a:t>ghind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00"/>
                </a:solidFill>
                <a:latin typeface="Arial"/>
              </a:rPr>
              <a:t>fructul stejar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50920" y="2060640"/>
            <a:ext cx="867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meroase plante erbacee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şi cu flor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golomăţ, păiuş</a:t>
            </a: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ghioce</a:t>
            </a: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viorel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00ffff"/>
                </a:solidFill>
                <a:latin typeface="Arial"/>
              </a:rPr>
              <a:t>violete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et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2920" y="333360"/>
            <a:ext cx="731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vegetaţia pădurilo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de stejar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4284720" cy="371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4859280" cy="3645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4859280" y="0"/>
            <a:ext cx="4284720" cy="322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189000"/>
            <a:ext cx="5796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arbuşti</a:t>
            </a:r>
            <a:r>
              <a:rPr b="1" lang="ro-RO" sz="48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ă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eş, păducel, soc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lemn câinesc, cor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porumbar, gherghina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5120" y="2565360"/>
            <a:ext cx="2500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- porumbe- fruc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rumbar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6360" y="5805360"/>
            <a:ext cx="28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- mă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eş</a:t>
            </a: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00"/>
                </a:solidFill>
                <a:latin typeface="Arial"/>
              </a:rPr>
              <a:t>fructele măceş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60280" y="5902200"/>
            <a:ext cx="265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- coarn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ructele cornu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11280" y="2781360"/>
            <a:ext cx="792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arbori :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arpen, ulm, tei, frasi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altin, arţar,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salcâ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reş sălbatic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57:45Z</dcterms:created>
  <dc:creator>user</dc:creator>
  <dc:description/>
  <dc:language>en-US</dc:language>
  <cp:lastModifiedBy>IULIA</cp:lastModifiedBy>
  <dcterms:modified xsi:type="dcterms:W3CDTF">2009-11-11T17:05:38Z</dcterms:modified>
  <cp:revision>202</cp:revision>
  <dc:subject/>
  <dc:title>Slide 1</dc:title>
</cp:coreProperties>
</file>